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1464-6205-498F-8AB5-5875195B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6691-8222-4973-828E-BF4142C7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799B-5DA7-4F3D-A00E-70A4A2FC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9105-4FDF-4DE9-B9E0-8BC5AD42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34E6-5934-4CFB-ACA3-3A9DB784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9E42-11E5-4AD9-9D98-BDC2CD07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BEAA-C16A-496D-BD4F-B018419D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0524-EE17-4912-BB90-887038FC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7920-44E4-44D0-AAFA-33A7E5F6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D053-137D-484C-A265-9442A164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109F-8817-4AE5-9918-205B39D4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9B2C-4A7F-443C-87EE-CC909852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6939-DF8D-450E-BC4F-2B2F3E01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D2BA-8E8F-4827-9768-C0A0733A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8583-60F5-43C5-8576-E7822F69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EF27-8835-4D5D-885F-DAC599B4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64D9-CE19-42CD-AF2F-BB8F9976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488-50D8-45F5-A845-2E848F9C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01B3-B441-4FDF-8577-1E81ADB6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CCA-CCDC-4EB6-9929-40E9A85B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9AC-1868-4F0A-A412-9B92794F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16D9-D94A-4998-B9FB-76AACBBE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427-B886-4BBF-B106-568C4552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863-901D-480A-9E80-C32B5343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4109-BC85-4F77-92AB-9C6FF4F33663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2A99-7979-4241-905A-72A756246CBC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rrington"/>
              </a:rPr>
              <a:t>Global Warming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2438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By: Shyheeda Washington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Dr. Scearce 7th period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Global Warming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arrington"/>
              </a:rPr>
              <a:t>Global warming</a:t>
            </a:r>
            <a:r>
              <a:rPr b="0" lang="en-US" sz="3400" spc="-1" strike="noStrike">
                <a:solidFill>
                  <a:srgbClr val="ffffff"/>
                </a:solidFill>
                <a:latin typeface="Harrington"/>
              </a:rPr>
              <a:t> is the increase in the average temperature of the Earth's near-surface air and oceans since the mid-twentieth century and its projected continua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14600" y="228600"/>
            <a:ext cx="632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Global near-surface temperatures have increased by 0.75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C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 (1.35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F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) relative to the period 1860</a:t>
            </a:r>
            <a:r>
              <a:rPr b="0" lang="en-US" sz="2500" spc="-1" strike="noStrike">
                <a:solidFill>
                  <a:srgbClr val="ffffff"/>
                </a:solidFill>
                <a:latin typeface="Lucida Grande"/>
              </a:rPr>
              <a:t>�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1900, according to the instrumental temperature record. The urban heat island effect is estimated to account for about 0.02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C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 of warming since 1900. Since 1979, land temperatures have increased about twice as fast as ocean temperatures (0.25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C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 per decade against 0.13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C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 per decade). Temperatures in the lower troposphere have increased between 0.12 and 0.22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C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 (0.22 and 0.4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F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) per decade since 1979, according to satellite temperature measurement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256536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6:59:18Z</dcterms:created>
  <dc:creator>PA Department of Education</dc:creator>
  <dc:description/>
  <dc:language>en-US</dc:language>
  <cp:lastModifiedBy>PA Department of Education</cp:lastModifiedBy>
  <dcterms:modified xsi:type="dcterms:W3CDTF">2009-05-22T17:30:07Z</dcterms:modified>
  <cp:revision>3</cp:revision>
  <dc:subject/>
  <dc:title>Global Warming</dc:title>
</cp:coreProperties>
</file>